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4608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F57C-2F7A-4E17-92BF-518AD65334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D6D7-A9FD-42F6-9FB3-EF66BD233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7722-14BA-4A08-938B-AB72C403DE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51ED-664E-4972-A68B-3AAE28DBC5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CBE3-0C98-43D8-99F9-80C7E8AA1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C4C1-B87F-4FF8-8D1D-52830FA6C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7518-9F07-4E52-8878-04978079B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CB89-0D19-454E-B5ED-8630895492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195F-B156-4B65-8DA3-53C21786A8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D953-4712-4B4B-976D-B42A9FB55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7E9-DE76-4395-A705-0B9F7B81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217-FCB2-4E74-9990-9DEAAA4A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FFF-B6DB-410D-A868-EE87E3D3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640-326C-497E-AA89-A76CE5CD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CF22-C2BD-4C44-9380-C313EE0A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95A8-D454-4D5C-9701-BDA00693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0293-65B4-4AA2-BD0F-5B38A75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5665-994D-4897-A7DE-43566C1B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1421-4F73-43E4-945F-C0ADF28C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5423-08F4-4B8A-9EF1-5FEAF0F7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555B-2224-46E9-9231-0A4A0C91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329-AA36-41BF-B18B-F1E651B3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5772-B714-45F4-8578-6CF8DACE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FB6B-D752-4788-B6AF-ECA3672D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1976-A6C2-466E-B0C8-36921150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0F60-48C3-43EB-8C64-4D1601BE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72A7-9581-4888-AE29-5AC0110A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DE04-1F51-4215-A325-06BD99F3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D8FB-CA0D-437E-B7C2-D2657105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D9DA-A6DA-491F-B2D8-1A0992BD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6B90-160B-4727-964F-2E2ACA1F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CD534-881A-402D-BBCA-E9743BFB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CAA-F6C2-4165-A311-C9B66376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1C8F-7ABE-4A19-AE94-CD0353B5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3A498-5452-4A73-AF5E-4421D799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14B1-CC27-496B-A866-323838D3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EF2E-1C6A-40E6-A3A1-95DE20E0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3A1F-F584-4823-A25F-602F4F87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229D-E7E3-4D51-846D-1D2ED733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2DBE-3F21-401C-BED8-2F6D2523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ABCFA-44E3-438E-90E6-E1CA71F7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2A2D1-B662-46FC-9142-472859E8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7BD3-C1D1-4239-8BC3-B557540D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9AF-258D-4570-BD63-9A3592C5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1CA5-F623-4721-A942-781BD7E4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800C6-2DAE-4593-B26D-841BF234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D822-14C3-4B9C-9FA7-75408313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E54E-3C85-4B8A-A8AF-305BB999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D57DB-F178-4E90-BA6F-9031B931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A65CC-E99D-4528-98E8-7E85CCB4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6A90-1D72-45E0-A9BB-EF406682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873F0-1350-4E95-9B90-BBE40459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08803-E428-4712-A93C-5DAD3271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6F0CB-7FA1-4319-8D54-896B80C2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88E-11AE-4277-9933-8A1D631F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A8B80-8EE4-47FE-9FFC-BB76C4A8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B73F6-09D7-4E1B-894F-9C65F2D5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9FD22-BCA9-48CE-A1F0-A2C2AC38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1635E-4738-4492-99C2-0DF66C53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997B8-D06C-45C5-8B65-FC188BE3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E79ED-95DD-4F91-809D-587ADC2C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F05CA-DB55-48FD-984C-F2F94E90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CA98E-B25B-45F0-AE22-03A2AA13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2E05F-5718-466F-B39C-FBEDE5B3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21983-3FFF-43CF-9D24-F3EA9BF7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BC4-9B1F-4A88-9173-6D2D3701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043BF-DF85-42FB-9B66-57E3EFF1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DA125-5ABB-410E-A372-87E69DDC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6F34A-F792-46C7-A119-A245F501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C25DF-E684-4315-B20E-3733B968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224F5-A834-485D-99E3-739D6703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AFDCD-7430-46F6-81FE-2691EA18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57310-71F2-436D-B5EB-5DE274E1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6B19C-3046-4669-B860-C5630AB8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B3635-A7CA-4080-9F90-B10E6286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E191B-E3DC-4F5F-8731-817005AE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CF9-BFB8-4785-AB5B-F1F1EE6C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08220-EB73-4352-8E4F-D9CC3964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3FEE9-279B-4EC1-BE3E-A0BF3021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60777-5803-43CC-98DF-8664094C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010-A6AC-4C79-B9D7-A9E9E5F2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E17-285A-45FB-900D-3D21591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BFDB-B035-4825-85A4-046B0A646EC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AB92-5A72-4A60-BC28-C20C7638F31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7C4-BFCD-42DE-A4A7-2571F6F0861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5A57-2E63-4E33-A989-49E0544420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9CA5-07AD-4599-8D3F-9F5C3291D50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7EFC-673C-4BB5-9305-FABCB7040A1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Q&amp;As on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AIR technical template and reporting on results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6 December 2015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3DE9-DE84-473E-A367-A60DBA0620A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Reporting on results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 priority for all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ural development well prepared!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MES developed with MS/stakeholders over 4 yea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esigned to demonstrate results at RDP and EU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nitoring and evaluation combine to show full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E4F2-049C-48A5-99CE-A3A4CE13F04E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Simplification of result reporting for 2014-2020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umber of indicators reduce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ll target indicator values obtained from simple monitoring da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re complex result indicators addressed through e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"Standard" AIR based only on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1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 evaluation assessment in AIR 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AFFA-F451-44B9-B3A6-AF5C95B9D51F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nnual result reporting (Standard AIR)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arget indicator values per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om monitoring 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ows achievements/progress to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ly programmed operations (primary effec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dditional contributions to Focus Are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enditure on operations flagged as having a secondary con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ve: only an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ve: no new data or analysis, simple data ex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/proportion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new requiremen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2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F218-3667-4F89-A089-EFC23B137C7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context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ed to show full extent of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In reality many operations contribute to more than one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Too complex to capture from simple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6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CC8D-105D-483A-804C-D013397441E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solution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Multiple contributions to target indicators "built-in" for Priority 4 and parts of Priority 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aptured through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For other Focus Areas, operations are "flagged" when encoded in the Operations Databas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Allows evaluators to identify releva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Discussed in ExCo, Expert group mee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valuators will quantify secondary contributions, and complementary result indicators, for the enhanced AI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Task shifted from 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Not required every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0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78AC-D485-4BD8-A855-AD307A6DFF2C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Flagging of secondary contributi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05" name="Picture 2" descr=""/>
          <p:cNvPicPr/>
          <p:nvPr/>
        </p:nvPicPr>
        <p:blipFill>
          <a:blip r:embed="rId1"/>
          <a:srcRect l="29791" t="7505" r="37096" b="79746"/>
          <a:stretch/>
        </p:blipFill>
        <p:spPr>
          <a:xfrm>
            <a:off x="66600" y="1484280"/>
            <a:ext cx="6677280" cy="14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rcRect l="30486" t="71123" r="37106" b="3433"/>
          <a:stretch/>
        </p:blipFill>
        <p:spPr>
          <a:xfrm>
            <a:off x="208080" y="2860560"/>
            <a:ext cx="6535800" cy="2800440"/>
          </a:xfrm>
          <a:prstGeom prst="rect">
            <a:avLst/>
          </a:prstGeom>
          <a:ln w="0">
            <a:noFill/>
          </a:ln>
        </p:spPr>
      </p:pic>
      <p:sp>
        <p:nvSpPr>
          <p:cNvPr id="307" name="Oval 1"/>
          <p:cNvSpPr/>
          <p:nvPr/>
        </p:nvSpPr>
        <p:spPr>
          <a:xfrm>
            <a:off x="4541760" y="4627440"/>
            <a:ext cx="1584360" cy="57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08" name="Straight Arrow Connector 3"/>
          <p:cNvCxnSpPr>
            <a:stCxn id="307" idx="7"/>
          </p:cNvCxnSpPr>
          <p:nvPr/>
        </p:nvCxnSpPr>
        <p:spPr>
          <a:xfrm flipV="1">
            <a:off x="5893920" y="4627080"/>
            <a:ext cx="11844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09" name="TextBox 6"/>
          <p:cNvSpPr/>
          <p:nvPr/>
        </p:nvSpPr>
        <p:spPr>
          <a:xfrm>
            <a:off x="6743880" y="1628640"/>
            <a:ext cx="24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f nature of operations is known, no need to go at application level, whole set of operations simil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0" name="Straight Arrow Connector 8"/>
          <p:cNvCxnSpPr>
            <a:stCxn id="307" idx="7"/>
            <a:endCxn id="309" idx="1"/>
          </p:cNvCxnSpPr>
          <p:nvPr/>
        </p:nvCxnSpPr>
        <p:spPr>
          <a:xfrm flipV="1">
            <a:off x="5894280" y="2320200"/>
            <a:ext cx="850320" cy="239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Oval 16"/>
          <p:cNvSpPr/>
          <p:nvPr/>
        </p:nvSpPr>
        <p:spPr>
          <a:xfrm>
            <a:off x="4419720" y="5153040"/>
            <a:ext cx="2350800" cy="72864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TextBox 17"/>
          <p:cNvSpPr/>
          <p:nvPr/>
        </p:nvSpPr>
        <p:spPr>
          <a:xfrm>
            <a:off x="6831000" y="4627440"/>
            <a:ext cx="24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where nature is not known in advance, coded on processing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3" name="Straight Arrow Connector 11"/>
          <p:cNvCxnSpPr>
            <a:stCxn id="311" idx="7"/>
            <a:endCxn id="312" idx="1"/>
          </p:cNvCxnSpPr>
          <p:nvPr/>
        </p:nvCxnSpPr>
        <p:spPr>
          <a:xfrm flipV="1">
            <a:off x="6426360" y="4997160"/>
            <a:ext cx="405360" cy="262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sp>
        <p:nvSpPr>
          <p:cNvPr id="314" name="Rectangle 2"/>
          <p:cNvSpPr/>
          <p:nvPr/>
        </p:nvSpPr>
        <p:spPr>
          <a:xfrm>
            <a:off x="5334120" y="1484280"/>
            <a:ext cx="1685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27AC-60C6-447B-8D65-4079C6499E35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Capturing secondary contribuit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376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gnoring secondary effects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leads to  underestimation of RDP achieve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687240" y="3159000"/>
            <a:ext cx="7413840" cy="3380040"/>
          </a:xfrm>
          <a:prstGeom prst="rect">
            <a:avLst/>
          </a:prstGeom>
          <a:ln w="0">
            <a:noFill/>
          </a:ln>
        </p:spPr>
      </p:pic>
      <p:sp>
        <p:nvSpPr>
          <p:cNvPr id="320" name="Oval 1"/>
          <p:cNvSpPr/>
          <p:nvPr/>
        </p:nvSpPr>
        <p:spPr>
          <a:xfrm>
            <a:off x="1474920" y="5084640"/>
            <a:ext cx="1009440" cy="865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843280" y="3357720"/>
            <a:ext cx="2200320" cy="2158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6732720" y="5192640"/>
            <a:ext cx="100800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23" name="Straight Arrow Connector 3"/>
          <p:cNvCxnSpPr/>
          <p:nvPr/>
        </p:nvCxnSpPr>
        <p:spPr>
          <a:xfrm>
            <a:off x="5043600" y="4581000"/>
            <a:ext cx="969120" cy="147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15"/>
          <p:cNvCxnSpPr/>
          <p:nvPr/>
        </p:nvCxnSpPr>
        <p:spPr>
          <a:xfrm flipH="1">
            <a:off x="5218920" y="5568840"/>
            <a:ext cx="1513800" cy="488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Straight Arrow Connector 17"/>
          <p:cNvCxnSpPr>
            <a:stCxn id="320" idx="2"/>
          </p:cNvCxnSpPr>
          <p:nvPr/>
        </p:nvCxnSpPr>
        <p:spPr>
          <a:xfrm>
            <a:off x="1474560" y="5516640"/>
            <a:ext cx="1080" cy="434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Straight Arrow Connector 23"/>
          <p:cNvCxnSpPr/>
          <p:nvPr/>
        </p:nvCxnSpPr>
        <p:spPr>
          <a:xfrm>
            <a:off x="2406240" y="5392440"/>
            <a:ext cx="2431080" cy="840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5-11-17T11:17:17Z</cp:lastPrinted>
  <dcterms:modified xsi:type="dcterms:W3CDTF">2015-12-16T14:01:26Z</dcterms:modified>
  <cp:revision>477</cp:revision>
  <dc:subject/>
  <dc:title>Slide 1</dc:title>
</cp:coreProperties>
</file>